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FDA9-A2A5-4CAB-8436-4C1A9EDD5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20C6-8E47-49E6-8597-28D514F703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0587-7BDD-43EE-8A13-1C3AC00164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7411-7757-471B-80A8-E76E917ADC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1470-80D0-45B7-8C18-CC35B83D93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8AD4-E656-4A9E-A064-5E8E82633A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31D6-6E9F-4DA9-BFFA-BEAC7ED9B7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EAAB-B829-4813-BD66-97CEA8B5F3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75F5-6E11-4B9E-A097-6BEA89DD87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71BA-A93B-4E03-821D-076C6ADDDC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95F0-C807-48BD-A4BC-FC9DF8DE3E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ACD5-095D-47D0-8F65-A9E402DB5F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860D-34F8-45B1-A794-754D5E567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3335-6795-4624-AFDE-BD000113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ED6C-3234-4733-A2FF-76A699049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0324-FCA0-415F-9203-BC6975D8D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0433-F270-44F9-AEBD-F2854AE4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7520-2C72-4823-943F-02657C65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4337-42E8-4724-9907-CF11C892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9390-D34F-4FAE-81F2-027F67ED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F1E6-80AB-425C-AABF-BE0FE1DD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F3E0-F284-418F-A4E2-ADD2016E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939A-79BA-4A05-99A3-EF655748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C935-C535-4C4B-9724-D7607405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F16D-42DB-4FE9-A635-B26A3C28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472B-8043-4B62-BA82-6AE4AB98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EA1E-BB5C-4C6F-BD62-FF4F7831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E6BA-82A5-4F6B-845B-B35A06E0C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781E-1FFD-45A9-88DC-85D2C1341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FB37-2683-4569-A9F4-9027021C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0018-02FA-40DB-8FB8-5F519B84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6E38-CE33-4FE9-93DA-AE3F7109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40C3-531A-4FB0-932E-8EC98D5F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11E7-28BD-43A4-BB71-4C9B7326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922B-8111-46B3-9F6F-62780972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10EF-02E6-4603-B556-84380140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C674-ADA4-43AD-9E4B-EB10A325CAF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4"/>
            <p:cNvSpPr/>
            <p:nvPr/>
          </p:nvSpPr>
          <p:spPr>
            <a:xfrm>
              <a:off x="2590920" y="-7920"/>
              <a:ext cx="2757240" cy="68785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0" y="-11160"/>
              <a:ext cx="2757600" cy="68724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5943600" y="-6480"/>
              <a:ext cx="2760840" cy="68738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3048120" y="-14400"/>
              <a:ext cx="3301920" cy="6864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80C9-F1DB-4C64-B931-9425D93C603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caciasl.com/simscript.cfm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Modeling and Simulation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T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How are simulation program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hey can be made with standard programming langages (C++, Java, Delphi, Fortran,et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here are special programs that build simulators (</a:t>
            </a:r>
            <a:r>
              <a:rPr b="0" lang="es-MX" sz="3200" spc="-1" strike="noStrike" u="sng">
                <a:solidFill>
                  <a:srgbClr val="f98d43"/>
                </a:solidFill>
                <a:uFillTx/>
                <a:latin typeface="Arial"/>
                <a:hlinkClick r:id="rId3"/>
              </a:rPr>
              <a:t>SIMSCRIPT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, DYNAM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preadshe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Typical us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Flight simul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cological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Financial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tructural engine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tc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Modeling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description of an event, behaviour or condition in the real world. Models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elp in understanding complex system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y are useful only to the extent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at they explain the real conditions they describ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dels are used to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velop simulation progra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 model is not just a substitute of the real phenomenom, it is also its simplif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Known model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Mathematical models (c=d*p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hysical models (E=mc</a:t>
            </a:r>
            <a:r>
              <a:rPr b="0" lang="es-MX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rchitectural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omputer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Mechanical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conomic &amp; social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Biological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hemical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Modeling Syste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 model studies a syste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We understand as a modeling system the portion of space we are interested to stud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In an architectonical model the system could be the actual bui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In a pysical model the system could be the movement of a partic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In a computer model the system could be anything 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Why do we need model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he system could not exist yet (a build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ealing with the actual system could be expensive (economic mode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ealing with the actual system could be inapropiate or catastrphic (medical research, nuclear prob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Simul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system that </a:t>
            </a:r>
            <a:r>
              <a:rPr b="0" lang="en-GB" sz="3200" spc="-1" strike="noStrike">
                <a:solidFill>
                  <a:srgbClr val="9ce157"/>
                </a:solidFill>
                <a:latin typeface="Times New Roman"/>
              </a:rPr>
              <a:t>emulat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by computer abstract mechanical or natural </a:t>
            </a:r>
            <a:r>
              <a:rPr b="0" lang="en-GB" sz="3200" spc="-1" strike="noStrike">
                <a:solidFill>
                  <a:srgbClr val="9ce157"/>
                </a:solidFill>
                <a:latin typeface="Times New Roman"/>
              </a:rPr>
              <a:t>syste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d then </a:t>
            </a:r>
            <a:r>
              <a:rPr b="0" lang="en-GB" sz="3200" spc="-1" strike="noStrike">
                <a:solidFill>
                  <a:srgbClr val="9ce157"/>
                </a:solidFill>
                <a:latin typeface="Times New Roman"/>
              </a:rPr>
              <a:t>outputs the predicted result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f real-world conditions. Models that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scribe these conditions are used to develop simulation progra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Advantages of simul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llows us to study and understand complex phenomena and make predi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llows us to work an a non-existinng project (usally to evaluate it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aves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aves mo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isks are avoi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The time of study of the project may be independent of the real time it tak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tudy of extreemly fast nuclear re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tudy of the evolution of a plant (could take more than 400 years!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Disadvantages of simul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When models are wro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ome predictions may be inaccurate and may cause catastorph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The study of the real problem is the nature of re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When simulation programs are wrong anything could happen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The simplification of the model could exagerated and important aspects may not be predicted/conside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The simultaion proces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electing a problem/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reating a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reating a simulation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Validating the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esigning Experi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xecute the experiments on the simultation progr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nalysing the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9T20:03:09Z</dcterms:created>
  <dc:creator>Maximo Gurmendez</dc:creator>
  <dc:description/>
  <dc:language>en-US</dc:language>
  <cp:lastModifiedBy>pienaark</cp:lastModifiedBy>
  <dcterms:modified xsi:type="dcterms:W3CDTF">2008-10-11T04:45:20Z</dcterms:modified>
  <cp:revision>7</cp:revision>
  <dc:subject/>
  <dc:title>Modeling and Simulations</dc:title>
</cp:coreProperties>
</file>